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42A-EF72-4591-B9F3-483CCB69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143-1113-499B-BDE9-9B897BEA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394-E405-42BF-9FE8-AAD1AC14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D95-0A21-480E-AC35-7DC0796B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B48-A7AB-4BA2-A3C6-F1C0B8AE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495-6322-45DF-B363-13ECF79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FBC-A862-4045-870C-08A91219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811-B443-4429-81E0-EA473078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1DE-6AE1-4131-8144-1890FDFC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1C8-9DF2-4B11-93D8-A0DCA8F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32D-E5C6-4B93-9F10-8DB6095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75D-E3BA-4C58-8B06-BEB0F72C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BF5A-35A4-4594-B674-46FCFCDB4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4A Time series and trend lin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main purpose of a time series is to see how a quantity varies with tim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Many types of trend exist, but in Further Maths we shall be looking at four types: secular, seasonal, cyclic, and random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ecular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a trend appears to be either increasing or decreasing, with no major change of direction, this is known as a secular tren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important to look at the data over a long period to confirm whether it is secula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easonal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ome data fluctuates during the year as the seasons change. Most obviously the weathe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easonal does not have to refer to the seasons of a year, e.g. Sales at a fast-food store might be higher on weekends. Here the days of the week are the seaso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yclic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yclic trends show fluctuations upwards and downwards but not according to seasons. There is no regular periods between peaks, e.g sales of new technology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Random trend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rends occur at random and are unpredictab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lotting 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ime-series plots are similar to scatterplots, with these difference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independent variable is always tim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periods are often labels and not numerical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points are connect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periods are labels, then we need to set up an “association table” when plotting data in a CAS calcul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s, Ex 4A: 7, 8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A: 1 to 5, 9 to 12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9:30:27Z</dcterms:created>
  <dc:creator>08843474</dc:creator>
  <dc:description/>
  <dc:language>en-US</dc:language>
  <cp:lastModifiedBy>08843474</cp:lastModifiedBy>
  <dcterms:modified xsi:type="dcterms:W3CDTF">2011-03-19T19:52:05Z</dcterms:modified>
  <cp:revision>1</cp:revision>
  <dc:subject/>
  <dc:title>Time series</dc:title>
</cp:coreProperties>
</file>